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BF1-7064-48EA-AD11-DBB0B923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611-A5A0-4E2B-9947-AD16EDC2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2E8-A4A0-43A8-9400-95B37AEA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A3C-C961-48F7-AF65-FCFBB2BB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E1C5-2963-4AB5-ADC3-DCCC0312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EA53-6ACB-4D83-AB8E-B9E05530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B8C9-E361-4B8E-8C10-CE07C702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8454-F10D-4B21-85B0-D6E77EF9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F54B-CF0F-4966-B9FB-90B514A1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2A29-6E94-4621-957A-6E0C268E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8108-91D3-4277-8229-DEFB93CA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9631-A5B1-466C-A71C-C61BDC36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768A-3251-403D-A519-C90D0F8B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DD04-A302-4D36-A1D4-EAA2EAED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59BA-6660-4605-8FC3-CE50FEFF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B4C8-4666-44AF-B07B-C57E4E60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37FB-C842-480D-B710-66E823B9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27FAC-8A60-4398-8753-0294DA49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B59997-3530-4BEE-8932-E46F0355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9EC3E-9B80-4073-92DF-14293DF9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0C5EE-5E10-4DB2-B2A7-5714B6F0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3190B-DD8A-45C7-873F-8BBCD761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997-30B4-455B-9D2C-B8804DCB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535CAD-4C8F-4573-9E67-F1563042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57C73-CB17-4FD5-B583-BBB93218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A509D-8961-4294-B6E2-27BBFD10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D42E2-F3D4-47BD-A708-63CE2293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F1D90-1B5F-4C73-9EFC-8ACDA435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60F41-A17D-4191-822A-0E2D4F2D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C1D0B-8DE1-4B78-8CBE-C3162EDD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3CBE8-E270-49F6-A01F-983CE2B6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6D10-3BB3-4A62-AE28-F6B8134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F822B-2745-4EA1-8F9C-234F52D8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8DF-924E-433F-A2E0-8DF1C9D9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42D5-5A0A-4A69-A3C9-62EE22F8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3C12-1EB5-49A4-90CE-3DB6F96C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E703-82B8-4706-BE93-3062A638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C9F2-D9D3-4FF0-AB97-E633E57E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83FC4-D611-425D-9343-0FFEEAA5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821DC-3B59-4A7E-B037-A25A256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932C0-6959-454A-AF79-CFBCC857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D401-24D9-4F03-8557-AF9F7600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61943-6DD1-4875-B37D-FA5A95253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283-716F-4936-B707-ADA9AD8A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039-B473-43C5-A50A-FADE9CB2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CFE-6FDE-4C00-82CB-663137BD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0BF-F74C-4E66-BE5B-7105708B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45D-5681-4124-BF7E-F1CF6A61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A0C0-34C1-492C-BD06-F0BB6A8C80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8870-8A9F-43B1-91FA-7E3B6A0266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D2D-30BC-423D-9DCE-8909F6392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444E-56B2-436A-8407-C8A12C47B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http://www.hongkonghustle.com/?pagename=album&amp;?pp_album=main&amp;pp_cat=default&amp;pp_image=Michael_Jordan_legend_of_23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 chateau de Michael Jorda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Jalani Bellofatto Debros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732800" y="4876920"/>
            <a:ext cx="1411200" cy="1981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1981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6934320" y="0"/>
            <a:ext cx="2209680" cy="1657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0" y="5103720"/>
            <a:ext cx="266688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ordan’s golf chatea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873680" y="1599840"/>
            <a:ext cx="3813120" cy="4530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Michael Jordans House"/>
          <p:cNvPicPr/>
          <p:nvPr/>
        </p:nvPicPr>
        <p:blipFill>
          <a:blip r:embed="rId2"/>
          <a:stretch/>
        </p:blipFill>
        <p:spPr>
          <a:xfrm>
            <a:off x="4648320" y="1676520"/>
            <a:ext cx="41148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poste de garde chez Michael Jord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Jordan’s le chateau a onze chambres, et poste de garde et centre de media, et une cour de baske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876560" y="1599840"/>
            <a:ext cx="3809880" cy="4530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809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 salon de Michael Jord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876560" y="1599840"/>
            <a:ext cx="3809880" cy="4530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Did your husband / boyfriend help with the interior design of your home? bedroom furniture"/>
          <p:cNvPicPr/>
          <p:nvPr/>
        </p:nvPicPr>
        <p:blipFill>
          <a:blip r:embed="rId2"/>
          <a:stretch/>
        </p:blipFill>
        <p:spPr>
          <a:xfrm>
            <a:off x="4343400" y="2209680"/>
            <a:ext cx="42386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e salle a manger de Michael Jord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200400"/>
            <a:ext cx="411480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 salon de Michael Jord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876560" y="159984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876560" y="394128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salle de chaussures de Michael Jord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876560" y="159984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876560" y="3941280"/>
            <a:ext cx="3809880" cy="2189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Michael Jordan legend of 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1523880"/>
            <a:ext cx="3267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8:05:51Z</dcterms:created>
  <dc:creator>edill</dc:creator>
  <dc:description/>
  <dc:language>en-US</dc:language>
  <cp:lastModifiedBy>edill</cp:lastModifiedBy>
  <dcterms:modified xsi:type="dcterms:W3CDTF">2011-11-14T20:18:13Z</dcterms:modified>
  <cp:revision>4</cp:revision>
  <dc:subject/>
  <dc:title>Slide 1</dc:title>
</cp:coreProperties>
</file>